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46C9-5A0D-4EAA-ABF1-7EB028D6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2B0F-2455-4770-BAA5-B718F587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4330-396B-4EF3-9A12-2DB2A28A4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B619-C02A-4D2F-BCCE-EFCD1D7E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97D5-D5F5-455D-AC3C-2385C279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FC10-1C0E-4623-8599-A03C41CF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2D6F-A654-494E-8E1A-BE6701E7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8DAA-8208-4609-9DB8-2093AB84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0440-8710-46E5-ABC5-F58B0524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7616-BA71-4632-BFC0-5416692A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6E87-4FB0-4ACA-8FB6-A5E3FE19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1CFF-D3A7-4016-8C96-454119E2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8EFE7-3ED2-4113-866C-F8BA7B7FF1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615960" y="7032600"/>
            <a:ext cx="8910720" cy="1440"/>
          </a:xfrm>
          <a:prstGeom prst="line">
            <a:avLst/>
          </a:prstGeom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15960" y="1273320"/>
            <a:ext cx="8910720" cy="1440"/>
          </a:xfrm>
          <a:prstGeom prst="line">
            <a:avLst/>
          </a:prstGeom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5960" y="7148520"/>
            <a:ext cx="2576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513640" y="7115040"/>
            <a:ext cx="10954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7189830-0874-4D4D-950F-2D16C91ADDE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82560" y="46512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861840" y="28584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077840" y="57456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61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3"/>
          <a:stretch/>
        </p:blipFill>
        <p:spPr>
          <a:xfrm>
            <a:off x="179280" y="101520"/>
            <a:ext cx="457200" cy="43812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 rot="21000000">
            <a:off x="9240480" y="7076880"/>
            <a:ext cx="86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87B7FD2-993B-45CE-9F99-A869067B23F0}" type="slidenum">
              <a:rPr b="0" lang="ru-RU" sz="16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7462800" y="4829040"/>
            <a:ext cx="2616120" cy="254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049480"/>
            <a:ext cx="612720" cy="551196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960"/>
              <a:gd name="textAreaBottom" fmla="*/ 5511600 h 5511960"/>
            </a:gdLst>
            <a:ahLst/>
            <a:rect l="textAreaLeft" t="textAreaTop" r="textAreaRight" b="textAreaBottom"/>
            <a:pathLst>
              <a:path w="21600" h="194210">
                <a:moveTo>
                  <a:pt x="55" y="0"/>
                </a:moveTo>
                <a:arcTo wR="55" hR="55" stAng="16200000" swAng="-5400000"/>
                <a:lnTo>
                  <a:pt x="0" y="194155"/>
                </a:lnTo>
                <a:arcTo wR="55" hR="55" stAng="10800000" swAng="-5400000"/>
                <a:lnTo>
                  <a:pt x="21545" y="194210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60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10080720" cy="195120"/>
          </a:xfrm>
          <a:prstGeom prst="roundRect">
            <a:avLst>
              <a:gd name="adj" fmla="val 819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049480"/>
            <a:ext cx="612720" cy="551196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960"/>
              <a:gd name="textAreaBottom" fmla="*/ 5511600 h 5511960"/>
            </a:gdLst>
            <a:ahLst/>
            <a:rect l="textAreaLeft" t="textAreaTop" r="textAreaRight" b="textAreaBottom"/>
            <a:pathLst>
              <a:path w="21600" h="194210">
                <a:moveTo>
                  <a:pt x="55" y="0"/>
                </a:moveTo>
                <a:arcTo wR="55" hR="55" stAng="16200000" swAng="-5400000"/>
                <a:lnTo>
                  <a:pt x="0" y="194155"/>
                </a:lnTo>
                <a:arcTo wR="55" hR="55" stAng="10800000" swAng="-5400000"/>
                <a:lnTo>
                  <a:pt x="21545" y="194210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60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905120"/>
            <a:ext cx="10080720" cy="195120"/>
          </a:xfrm>
          <a:prstGeom prst="roundRect">
            <a:avLst>
              <a:gd name="adj" fmla="val 819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0" y="179280"/>
            <a:ext cx="10078920" cy="719280"/>
            <a:chOff x="0" y="179280"/>
            <a:chExt cx="10078920" cy="719280"/>
          </a:xfrm>
        </p:grpSpPr>
        <p:sp>
          <p:nvSpPr>
            <p:cNvPr id="242" name=""/>
            <p:cNvSpPr/>
            <p:nvPr/>
          </p:nvSpPr>
          <p:spPr>
            <a:xfrm>
              <a:off x="0" y="17928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35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0" y="538920"/>
              <a:ext cx="10077120" cy="0"/>
              <a:chOff x="0" y="538920"/>
              <a:chExt cx="10077120" cy="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53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0" y="719280"/>
              <a:ext cx="10077120" cy="0"/>
              <a:chOff x="0" y="719280"/>
              <a:chExt cx="10077120" cy="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71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898560"/>
              <a:ext cx="10077120" cy="0"/>
              <a:chOff x="0" y="898560"/>
              <a:chExt cx="10077120" cy="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89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"/>
          <p:cNvGrpSpPr/>
          <p:nvPr/>
        </p:nvGrpSpPr>
        <p:grpSpPr>
          <a:xfrm>
            <a:off x="0" y="1079640"/>
            <a:ext cx="10078920" cy="718920"/>
            <a:chOff x="0" y="1079640"/>
            <a:chExt cx="10078920" cy="718920"/>
          </a:xfrm>
        </p:grpSpPr>
        <p:sp>
          <p:nvSpPr>
            <p:cNvPr id="254" name=""/>
            <p:cNvSpPr/>
            <p:nvPr/>
          </p:nvSpPr>
          <p:spPr>
            <a:xfrm>
              <a:off x="0" y="107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125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0" y="1438920"/>
              <a:ext cx="10077120" cy="0"/>
              <a:chOff x="0" y="1438920"/>
              <a:chExt cx="10077120" cy="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143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1617840"/>
              <a:ext cx="10077120" cy="0"/>
              <a:chOff x="0" y="1617840"/>
              <a:chExt cx="10077120" cy="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161784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1798560"/>
              <a:ext cx="10077120" cy="0"/>
              <a:chOff x="0" y="1798560"/>
              <a:chExt cx="10077120" cy="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179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0" y="1979640"/>
            <a:ext cx="10078920" cy="719280"/>
            <a:chOff x="0" y="1979640"/>
            <a:chExt cx="10078920" cy="719280"/>
          </a:xfrm>
        </p:grpSpPr>
        <p:sp>
          <p:nvSpPr>
            <p:cNvPr id="266" name=""/>
            <p:cNvSpPr/>
            <p:nvPr/>
          </p:nvSpPr>
          <p:spPr>
            <a:xfrm>
              <a:off x="0" y="197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216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0" y="2339280"/>
              <a:ext cx="10077120" cy="0"/>
              <a:chOff x="0" y="2339280"/>
              <a:chExt cx="10077120" cy="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23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2518200"/>
              <a:ext cx="10077120" cy="0"/>
              <a:chOff x="0" y="2518200"/>
              <a:chExt cx="10077120" cy="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25182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2698920"/>
              <a:ext cx="10077120" cy="0"/>
              <a:chOff x="0" y="2698920"/>
              <a:chExt cx="10077120" cy="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26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0" y="2879640"/>
            <a:ext cx="10078920" cy="719280"/>
            <a:chOff x="0" y="2879640"/>
            <a:chExt cx="10078920" cy="719280"/>
          </a:xfrm>
        </p:grpSpPr>
        <p:sp>
          <p:nvSpPr>
            <p:cNvPr id="278" name=""/>
            <p:cNvSpPr/>
            <p:nvPr/>
          </p:nvSpPr>
          <p:spPr>
            <a:xfrm>
              <a:off x="0" y="287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306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0" y="3239280"/>
              <a:ext cx="10077120" cy="0"/>
              <a:chOff x="0" y="3239280"/>
              <a:chExt cx="10077120" cy="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32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3418560"/>
              <a:ext cx="10077120" cy="0"/>
              <a:chOff x="0" y="3418560"/>
              <a:chExt cx="10077120" cy="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341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3598920"/>
              <a:ext cx="10077120" cy="0"/>
              <a:chOff x="0" y="3598920"/>
              <a:chExt cx="10077120" cy="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35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"/>
          <p:cNvGrpSpPr/>
          <p:nvPr/>
        </p:nvGrpSpPr>
        <p:grpSpPr>
          <a:xfrm>
            <a:off x="0" y="3780000"/>
            <a:ext cx="10078920" cy="718920"/>
            <a:chOff x="0" y="3780000"/>
            <a:chExt cx="10078920" cy="718920"/>
          </a:xfrm>
        </p:grpSpPr>
        <p:sp>
          <p:nvSpPr>
            <p:cNvPr id="290" name=""/>
            <p:cNvSpPr/>
            <p:nvPr/>
          </p:nvSpPr>
          <p:spPr>
            <a:xfrm>
              <a:off x="0" y="37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395856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0" y="4139280"/>
              <a:ext cx="10077120" cy="0"/>
              <a:chOff x="0" y="4139280"/>
              <a:chExt cx="10077120" cy="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41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4318200"/>
              <a:ext cx="10077120" cy="0"/>
              <a:chOff x="0" y="4318200"/>
              <a:chExt cx="10077120" cy="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43182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4498920"/>
              <a:ext cx="10077120" cy="0"/>
              <a:chOff x="0" y="4498920"/>
              <a:chExt cx="10077120" cy="0"/>
            </a:xfrm>
          </p:grpSpPr>
          <p:sp>
            <p:nvSpPr>
              <p:cNvPr id="299" name=""/>
              <p:cNvSpPr/>
              <p:nvPr/>
            </p:nvSpPr>
            <p:spPr>
              <a:xfrm>
                <a:off x="0" y="44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0" y="4680000"/>
            <a:ext cx="10078920" cy="718920"/>
            <a:chOff x="0" y="4680000"/>
            <a:chExt cx="10078920" cy="718920"/>
          </a:xfrm>
        </p:grpSpPr>
        <p:sp>
          <p:nvSpPr>
            <p:cNvPr id="302" name=""/>
            <p:cNvSpPr/>
            <p:nvPr/>
          </p:nvSpPr>
          <p:spPr>
            <a:xfrm>
              <a:off x="0" y="46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0" y="485856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0" y="5039280"/>
              <a:ext cx="10077120" cy="0"/>
              <a:chOff x="0" y="5039280"/>
              <a:chExt cx="10077120" cy="0"/>
            </a:xfrm>
          </p:grpSpPr>
          <p:sp>
            <p:nvSpPr>
              <p:cNvPr id="305" name=""/>
              <p:cNvSpPr/>
              <p:nvPr/>
            </p:nvSpPr>
            <p:spPr>
              <a:xfrm>
                <a:off x="0" y="50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0" y="5218200"/>
              <a:ext cx="10077120" cy="0"/>
              <a:chOff x="0" y="5218200"/>
              <a:chExt cx="10077120" cy="0"/>
            </a:xfrm>
          </p:grpSpPr>
          <p:sp>
            <p:nvSpPr>
              <p:cNvPr id="308" name=""/>
              <p:cNvSpPr/>
              <p:nvPr/>
            </p:nvSpPr>
            <p:spPr>
              <a:xfrm>
                <a:off x="0" y="52182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0" y="5398920"/>
              <a:ext cx="10077120" cy="0"/>
              <a:chOff x="0" y="5398920"/>
              <a:chExt cx="10077120" cy="0"/>
            </a:xfrm>
          </p:grpSpPr>
          <p:sp>
            <p:nvSpPr>
              <p:cNvPr id="311" name=""/>
              <p:cNvSpPr/>
              <p:nvPr/>
            </p:nvSpPr>
            <p:spPr>
              <a:xfrm>
                <a:off x="0" y="53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3" name=""/>
          <p:cNvGrpSpPr/>
          <p:nvPr/>
        </p:nvGrpSpPr>
        <p:grpSpPr>
          <a:xfrm>
            <a:off x="0" y="5580000"/>
            <a:ext cx="10078920" cy="719280"/>
            <a:chOff x="0" y="5580000"/>
            <a:chExt cx="10078920" cy="719280"/>
          </a:xfrm>
        </p:grpSpPr>
        <p:sp>
          <p:nvSpPr>
            <p:cNvPr id="314" name=""/>
            <p:cNvSpPr/>
            <p:nvPr/>
          </p:nvSpPr>
          <p:spPr>
            <a:xfrm>
              <a:off x="0" y="55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575892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0" y="5939640"/>
              <a:ext cx="10077120" cy="0"/>
              <a:chOff x="0" y="5939640"/>
              <a:chExt cx="10077120" cy="0"/>
            </a:xfrm>
          </p:grpSpPr>
          <p:sp>
            <p:nvSpPr>
              <p:cNvPr id="317" name=""/>
              <p:cNvSpPr/>
              <p:nvPr/>
            </p:nvSpPr>
            <p:spPr>
              <a:xfrm>
                <a:off x="0" y="593964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0" y="6118560"/>
              <a:ext cx="10077120" cy="0"/>
              <a:chOff x="0" y="6118560"/>
              <a:chExt cx="10077120" cy="0"/>
            </a:xfrm>
          </p:grpSpPr>
          <p:sp>
            <p:nvSpPr>
              <p:cNvPr id="320" name=""/>
              <p:cNvSpPr/>
              <p:nvPr/>
            </p:nvSpPr>
            <p:spPr>
              <a:xfrm>
                <a:off x="0" y="611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0" y="6299280"/>
              <a:ext cx="10077120" cy="0"/>
              <a:chOff x="0" y="6299280"/>
              <a:chExt cx="10077120" cy="0"/>
            </a:xfrm>
          </p:grpSpPr>
          <p:sp>
            <p:nvSpPr>
              <p:cNvPr id="323" name=""/>
              <p:cNvSpPr/>
              <p:nvPr/>
            </p:nvSpPr>
            <p:spPr>
              <a:xfrm>
                <a:off x="0" y="629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0" y="6480000"/>
            <a:ext cx="10078920" cy="719280"/>
            <a:chOff x="0" y="6480000"/>
            <a:chExt cx="10078920" cy="719280"/>
          </a:xfrm>
        </p:grpSpPr>
        <p:sp>
          <p:nvSpPr>
            <p:cNvPr id="326" name=""/>
            <p:cNvSpPr/>
            <p:nvPr/>
          </p:nvSpPr>
          <p:spPr>
            <a:xfrm>
              <a:off x="0" y="64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665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0" y="6840360"/>
              <a:ext cx="10077120" cy="0"/>
              <a:chOff x="0" y="6840360"/>
              <a:chExt cx="10077120" cy="0"/>
            </a:xfrm>
          </p:grpSpPr>
          <p:sp>
            <p:nvSpPr>
              <p:cNvPr id="329" name=""/>
              <p:cNvSpPr/>
              <p:nvPr/>
            </p:nvSpPr>
            <p:spPr>
              <a:xfrm>
                <a:off x="0" y="68403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0" y="7020000"/>
              <a:ext cx="10077120" cy="0"/>
              <a:chOff x="0" y="7020000"/>
              <a:chExt cx="10077120" cy="0"/>
            </a:xfrm>
          </p:grpSpPr>
          <p:sp>
            <p:nvSpPr>
              <p:cNvPr id="332" name=""/>
              <p:cNvSpPr/>
              <p:nvPr/>
            </p:nvSpPr>
            <p:spPr>
              <a:xfrm>
                <a:off x="0" y="70200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0" y="7199280"/>
              <a:ext cx="10077120" cy="0"/>
              <a:chOff x="0" y="7199280"/>
              <a:chExt cx="10077120" cy="0"/>
            </a:xfrm>
          </p:grpSpPr>
          <p:sp>
            <p:nvSpPr>
              <p:cNvPr id="335" name=""/>
              <p:cNvSpPr/>
              <p:nvPr/>
            </p:nvSpPr>
            <p:spPr>
              <a:xfrm>
                <a:off x="0" y="719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"/>
          <p:cNvSpPr/>
          <p:nvPr/>
        </p:nvSpPr>
        <p:spPr>
          <a:xfrm>
            <a:off x="0" y="7380360"/>
            <a:ext cx="1008072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87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357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71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020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08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278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448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823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03280" y="5580000"/>
            <a:ext cx="301320" cy="280800"/>
            <a:chOff x="503280" y="5580000"/>
            <a:chExt cx="301320" cy="280800"/>
          </a:xfrm>
        </p:grpSpPr>
        <p:sp>
          <p:nvSpPr>
            <p:cNvPr id="398" name=""/>
            <p:cNvSpPr/>
            <p:nvPr/>
          </p:nvSpPr>
          <p:spPr>
            <a:xfrm>
              <a:off x="503280" y="5595840"/>
              <a:ext cx="284400" cy="2649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0200" y="5580000"/>
              <a:ext cx="284400" cy="2649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03280" y="1717560"/>
            <a:ext cx="301320" cy="281160"/>
            <a:chOff x="503280" y="1717560"/>
            <a:chExt cx="301320" cy="281160"/>
          </a:xfrm>
        </p:grpSpPr>
        <p:sp>
          <p:nvSpPr>
            <p:cNvPr id="401" name=""/>
            <p:cNvSpPr/>
            <p:nvPr/>
          </p:nvSpPr>
          <p:spPr>
            <a:xfrm>
              <a:off x="503280" y="1735200"/>
              <a:ext cx="28440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0200" y="171756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2960" y="128520"/>
            <a:ext cx="1800" cy="204156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7600" y="363600"/>
            <a:ext cx="204300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0280" y="157320"/>
            <a:ext cx="1440" cy="60768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38240" y="500040"/>
            <a:ext cx="60804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397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73844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2568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0924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7908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285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5616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3514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09768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9292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5405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15976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78832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948528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59832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128592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08116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288612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62268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432108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496872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564660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624528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692316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5219640" cy="1017720"/>
          </a:xfrm>
          <a:custGeom>
            <a:avLst/>
            <a:gdLst/>
            <a:ahLst/>
            <a:rect l="l" t="t" r="r" b="b"/>
            <a:pathLst>
              <a:path w="14498" h="2828">
                <a:moveTo>
                  <a:pt x="0" y="0"/>
                </a:moveTo>
                <a:lnTo>
                  <a:pt x="0" y="1236"/>
                </a:lnTo>
                <a:lnTo>
                  <a:pt x="706" y="1631"/>
                </a:lnTo>
                <a:lnTo>
                  <a:pt x="1407" y="1935"/>
                </a:lnTo>
                <a:lnTo>
                  <a:pt x="2157" y="2197"/>
                </a:lnTo>
                <a:lnTo>
                  <a:pt x="2943" y="2418"/>
                </a:lnTo>
                <a:lnTo>
                  <a:pt x="3767" y="2593"/>
                </a:lnTo>
                <a:lnTo>
                  <a:pt x="4625" y="2721"/>
                </a:lnTo>
                <a:lnTo>
                  <a:pt x="5510" y="2801"/>
                </a:lnTo>
                <a:lnTo>
                  <a:pt x="6417" y="2827"/>
                </a:lnTo>
                <a:lnTo>
                  <a:pt x="7329" y="2801"/>
                </a:lnTo>
                <a:lnTo>
                  <a:pt x="8215" y="2721"/>
                </a:lnTo>
                <a:lnTo>
                  <a:pt x="9072" y="2593"/>
                </a:lnTo>
                <a:lnTo>
                  <a:pt x="9895" y="2418"/>
                </a:lnTo>
                <a:lnTo>
                  <a:pt x="10684" y="2197"/>
                </a:lnTo>
                <a:lnTo>
                  <a:pt x="11432" y="1935"/>
                </a:lnTo>
                <a:lnTo>
                  <a:pt x="12136" y="1631"/>
                </a:lnTo>
                <a:lnTo>
                  <a:pt x="12788" y="1293"/>
                </a:lnTo>
                <a:lnTo>
                  <a:pt x="13392" y="920"/>
                </a:lnTo>
                <a:lnTo>
                  <a:pt x="13940" y="513"/>
                </a:lnTo>
                <a:lnTo>
                  <a:pt x="14429" y="78"/>
                </a:lnTo>
                <a:lnTo>
                  <a:pt x="14497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5402160"/>
            <a:ext cx="10080720" cy="2157480"/>
          </a:xfrm>
          <a:prstGeom prst="roundRect">
            <a:avLst>
              <a:gd name="adj" fmla="val 69"/>
            </a:avLst>
          </a:pr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-33480" y="6459480"/>
            <a:ext cx="5240520" cy="1101960"/>
          </a:xfrm>
          <a:custGeom>
            <a:avLst/>
            <a:gdLst/>
            <a:ahLst/>
            <a:rect l="l" t="t" r="r" b="b"/>
            <a:pathLst>
              <a:path w="14555" h="3060">
                <a:moveTo>
                  <a:pt x="93" y="3059"/>
                </a:moveTo>
                <a:lnTo>
                  <a:pt x="93" y="2102"/>
                </a:lnTo>
                <a:lnTo>
                  <a:pt x="0" y="2065"/>
                </a:lnTo>
                <a:lnTo>
                  <a:pt x="586" y="1659"/>
                </a:lnTo>
                <a:lnTo>
                  <a:pt x="1219" y="1291"/>
                </a:lnTo>
                <a:lnTo>
                  <a:pt x="1898" y="964"/>
                </a:lnTo>
                <a:lnTo>
                  <a:pt x="2620" y="680"/>
                </a:lnTo>
                <a:lnTo>
                  <a:pt x="3383" y="441"/>
                </a:lnTo>
                <a:lnTo>
                  <a:pt x="4180" y="252"/>
                </a:lnTo>
                <a:lnTo>
                  <a:pt x="5008" y="112"/>
                </a:lnTo>
                <a:lnTo>
                  <a:pt x="5864" y="29"/>
                </a:lnTo>
                <a:lnTo>
                  <a:pt x="6745" y="0"/>
                </a:lnTo>
                <a:lnTo>
                  <a:pt x="7625" y="29"/>
                </a:lnTo>
                <a:lnTo>
                  <a:pt x="8479" y="112"/>
                </a:lnTo>
                <a:lnTo>
                  <a:pt x="9308" y="252"/>
                </a:lnTo>
                <a:lnTo>
                  <a:pt x="10104" y="441"/>
                </a:lnTo>
                <a:lnTo>
                  <a:pt x="10868" y="680"/>
                </a:lnTo>
                <a:lnTo>
                  <a:pt x="11590" y="964"/>
                </a:lnTo>
                <a:lnTo>
                  <a:pt x="12269" y="1291"/>
                </a:lnTo>
                <a:lnTo>
                  <a:pt x="12902" y="1659"/>
                </a:lnTo>
                <a:lnTo>
                  <a:pt x="13487" y="2065"/>
                </a:lnTo>
                <a:lnTo>
                  <a:pt x="14018" y="2504"/>
                </a:lnTo>
                <a:lnTo>
                  <a:pt x="14489" y="2976"/>
                </a:lnTo>
                <a:lnTo>
                  <a:pt x="14554" y="3059"/>
                </a:lnTo>
                <a:lnTo>
                  <a:pt x="93" y="3059"/>
                </a:lnTo>
              </a:path>
            </a:pathLst>
          </a:custGeom>
          <a:gradFill rotWithShape="0">
            <a:gsLst>
              <a:gs pos="0">
                <a:srgbClr val="2300dc"/>
              </a:gs>
              <a:gs pos="100000">
                <a:srgbClr val="000080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8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31680" y="287820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6600" spc="-1" strike="noStrike">
                <a:solidFill>
                  <a:srgbClr val="6b0094"/>
                </a:solidFill>
                <a:latin typeface="Georgia"/>
              </a:rPr>
              <a:t>Жүрек жылуы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720720" y="4680000"/>
            <a:ext cx="2521080" cy="245736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2"/>
          <a:stretch/>
        </p:blipFill>
        <p:spPr>
          <a:xfrm>
            <a:off x="6372360" y="98280"/>
            <a:ext cx="316836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752400" y="3057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3600" spc="-1" strike="noStrike">
                <a:solidFill>
                  <a:srgbClr val="5c8526"/>
                </a:solidFill>
                <a:latin typeface="Tahoma"/>
              </a:rPr>
              <a:t>«Сен, мен және бәріміз» әнімен аяқта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5c8526"/>
                </a:solidFill>
                <a:latin typeface="Tahoma"/>
              </a:rPr>
              <a:t>Мақсаты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Оқушылардың жаңа ортаға   бейімделуі,   бір-бірімен өзара қарым-қатынас жасауға көмектесу, жағымды хал-ахуал қалыптастыру. Балалардың  өзін-өзі тануды дамытуға жағдай жасау, бағалау және өз-өзіне сенімділіктерін арттыру, топты ынтымақтастыру, біріктіру  бағытында  жұмыстану.  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Жылулық сезіну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Тренингке қатысушы оқушылар шеңбер құрып тұрады да,  жұмсақ ойыншықты жылжыту арқылы көршісіне жылы лебіз, тілек білдіру ұсынылады, нәтижесінде тыңдаушы алғысын білдіреді. Бәрі қолдарынан ұстап жылулық сыйлайды.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Мектеп жолдары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600" spc="-1" strike="noStrike">
                <a:solidFill>
                  <a:srgbClr val="198a8a"/>
                </a:solidFill>
                <a:latin typeface="Times New Roman"/>
              </a:rPr>
              <a:t>Тақтада  немесе шеңбердің ортасында «Мектеп жолдары» суреті жапсырылады. Оқушыларға сөйлемді аяқтау ұсынылады: «Бастауыш сыныпта менің есімде қалған...........», «Бесінші сыныпта маған.......». Барлығы шеңбер бойымен бір-біріне доп немесе жұмсақ ойыншықты кезекпен беру арқылы пікірлесіп айтады. Жүргізуші  қызықты пікірлерге мән беріп, барлық оқушылардың мектептегі тәжірибесіне көңіл аударады. Жүргізуші оқушылардан 5-ші сыныпқа ауысқанда мектеп өмірінде қандай жаңа өзгерістер кездескені жөнінде әңгімелеп беруді ұсынады.</a:t>
            </a:r>
            <a:endParaRPr b="0" lang="en-US" sz="2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41240" y="541080"/>
            <a:ext cx="8607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741240" y="582120"/>
            <a:ext cx="860760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Кім нені  жақсы көреді?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Тәттіні жақсы көретіндер бір қадам алға,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мысықтары барлар оң қолдарын көтереді,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футболды жақсы көретіндер тізерлеп  отырады,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сурет салғанды ұнататындар шапалақ ұрады, 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 5 сынып оқушылары солар қолдарынан ұстасады.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  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Жүргізуші оқушыларды  біріктіретін нәрселер көп екінін айтып түсіндіреді.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41240" y="582120"/>
            <a:ext cx="860760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Менің ең жақсы қасиеттерім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2400" spc="-1" strike="noStrike">
                <a:solidFill>
                  <a:srgbClr val="198a8a"/>
                </a:solidFill>
                <a:latin typeface="Times New Roman"/>
              </a:rPr>
              <a:t>Нұсқау</a:t>
            </a: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1. Бұл бағанға өз  мінезіңіздің ең жақсы ерекшеліктерін айту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2. Мақтан ететін әр түрлі  қабілеттері мен таланттары  туралы айту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3. Бұл бағанға өмірдің  әр саласында жеткен жетістіктері  туралы айту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1854360" y="2378160"/>
          <a:ext cx="6384600" cy="1222200"/>
        </p:xfrm>
        <a:graphic>
          <a:graphicData uri="http://schemas.openxmlformats.org/drawingml/2006/table">
            <a:tbl>
              <a:tblPr/>
              <a:tblGrid>
                <a:gridCol w="2078640"/>
                <a:gridCol w="2152080"/>
                <a:gridCol w="2153880"/>
              </a:tblGrid>
              <a:tr h="124488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ің ең жақсы нышандар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ің қабілеттерім мен таланттар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ің жетістіктері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720720" y="360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Айсберг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720720" y="1800000"/>
            <a:ext cx="8607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Оқушылар өздерін мұздың үстінде тұрғандай сезінулері керек. Мұз еріген сайын бір-бірін құлатпай,  сол кішкентай мұзға барлығы сыйысып тұрулары керек.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3600" spc="-1" strike="noStrike">
                <a:solidFill>
                  <a:srgbClr val="198a8a"/>
                </a:solidFill>
                <a:latin typeface="Times New Roman"/>
              </a:rPr>
              <a:t>Талдау: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   </a:t>
            </a: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Қандай сезімде болдыңдар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   </a:t>
            </a: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Кімге ыңғайсыз, қолайсыз болды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71520" y="360360"/>
            <a:ext cx="9169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Біздің топ жүрегі» жаттығу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78920" y="1618920"/>
            <a:ext cx="972036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97000"/>
          </a:bodyPr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Оқушылар жаңа бүршік жарған ағашымызға өзіміздің жүрек жылуымызды бере отырып,  оның жайқалып, құлпырып өсуіне көмек берейік. Осы тренингте алған әсерлерімізді ортаға салып, өз жылы лебіз, тілектеріңізді жазып  ілейік.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3600" spc="-1" strike="noStrike">
                <a:solidFill>
                  <a:srgbClr val="198a8a"/>
                </a:solidFill>
                <a:latin typeface="Times New Roman"/>
              </a:rPr>
              <a:t>Талдау: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Тренинг кезінде алған әсеріңіз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Мектепке, сыныпқа деген 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көзқарасыңыз қандай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08:27:06Z</dcterms:created>
  <dc:creator/>
  <dc:description/>
  <dc:language>en-US</dc:language>
  <cp:lastModifiedBy>Customer</cp:lastModifiedBy>
  <dcterms:modified xsi:type="dcterms:W3CDTF">2012-09-07T10:37:23Z</dcterms:modified>
  <cp:revision>2</cp:revision>
  <dc:subject/>
  <dc:title>Жүрек жылуы</dc:title>
</cp:coreProperties>
</file>